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6817-0496-4124-9DBA-EA4E78D22B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7634-E471-4BA5-BCDF-B4EDBF4336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participants, their exposure to migratory thoughts came through the internet and network of friends and relations abro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a varied information sources (i.e. access to online resources and new media) enabling formation of geographical imaginaries of Europe or the imagination of new possible life courses (Appadurai, 19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citizens in the global South or peripheral nation are remotely acculturated (Ferguson &amp; Bornstein,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74E9-F38D-4887-8BC8-30D56B5019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found empirical evidence for the phenomenon of cognitive migration and the cognitive migrant (Koikkalainen et al., 2020; Koikkalainen &amp; Kyl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is initially delineated the category cognitive migrant empirically and described three cognitive characteristics pertaining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further clarified the process of becoming a cognitive migrant and explained how the thought of traveling abroad influence the daily behaviour or dailiness of cognitive migrants</a:t>
            </a:r>
            <a:endParaRPr b="0" lang="en-US" sz="12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am: “</a:t>
            </a:r>
            <a:r>
              <a:rPr b="1" i="1" lang="en-US" sz="2400" spc="-1" strike="noStrike">
                <a:solidFill>
                  <a:srgbClr val="000000"/>
                </a:solidFill>
                <a:latin typeface="Calibri"/>
              </a:rPr>
              <a:t>yes my mind, my soul, everything was there I am just waiting just to board the plane and be there. I see myself there actually, yes I see myself there, I see myself there actually</a:t>
            </a:r>
            <a:r>
              <a:rPr b="0" i="1" lang="en-US"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34B9-B725-4AA5-8441-4751C792FE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identified five (5) characteristics of the mindset of cognitive migrants. The mindset of cognitive migrants were found to be 1) displaced; 2) porous; 3) Salvationist; 4) disembodied at the destination; and 5) hopeless and negative about place, what Boccagni (2017) calls entrenched cyn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7636-D3A0-442E-B038-CD4FE425B4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 of traveling abroad also influences the daily behaviour or dailiness of cognitive migrants. This gives credence to the nexus between thought and action as already established in the literature. I, however, present a more nuanced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way cognitive migrants talk, dress and carry themsel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stains this embeddedness in the virtual space of the imagined dest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unite thought and action homeward and outward future  due to the body becoming “mindless” at home and the mind becoming disembodied at the imagined desti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5655-F4B5-4F2D-9FF5-6CA6F9EBA5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regard, although John and Jeremy’s failure trajectory depart from the 19 others (i.e. those with bounced experience), their behaviours are equally intentional and directed to a situation (i.e. better livelihood at an imagined destination) that transcends their behaviour itself like the others. With these two, a key requirement for establishing essence – free imaginative variation – in phenomenology is achieved. What is poignant about the lifeworlds of these two is that, they suffer the effects of the disruption the others experienced albeit, to varying deg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verges from Mescoli (2014) who ascribes the ensuing subjectivity exclusively to the extensive preparation that prospective migrants enga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C9A5-6F88-4C62-9290-B4BE4AD6A3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thesis grapples with the concept of cognitive return/emplacement. The thesis’ central question, “how do cognitive migrants bring their minds back to the country of origin to invest in a homeward future?” hinges on this. The inconceivability of this phenomenon in migration scholarship thus far, may be attributed to the corporeality bias that has congenitally plagued the discipline. Although the concept emplacement is not new to migration studies (Schiller &amp; Çağlar, 2016), it has not been used in the context I am deploying it here (Vigh &amp; Bjarnesen, 2016). I report findings on turning point(s), enablers of cognitive return/emplacement, the cognitive return/emplacement process, the cognitive returned migrant category and the comparison between cognitive migrants and cognitive returned mi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ing point in a context of spatial constancy sounds contradictory. Turning point connotes movement; this movement however, is not physical, but cognitive, imagined or semiotic (Koikkalainen &amp; Kyle, 2016; Womersley, 2020; Zittoun, 2020; Zittoun et al., 2020). The turning point represents reconfiguration of migration aspiration, which have been investigated previously using people who have physically moved (Boccagni, 2017; Wang &amp; Collins, 2020) In addition, I argue in this chapter that the process of potential migrants reconfiguring their migrations imaginations homeward is spatio-temporal-cognitive occurring within a context. This ensures that even in the context of spatial fixity, there is temporal flow. This is an extension of Boccagni's (2017)  and Wang and Collins’ (2020) migration aspirations and temporality nexus both situated in varied geopolitical sett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23F1-68ED-470F-ADFC-BF2BD83F97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s similar symptoms with acute traumatic stress (i.e. confusion, disorientation, isolation, loss of appet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8150-4D6F-4105-A653-9AECA00ECB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volves taking stock of one’s life.  It is a metacognitive process resulting in the evaluation of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nablers work in concert and at multiple ecological levels to drive the cognitive return/emplacement and reintegra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3563-B9D7-4DBA-998D-F0221914E72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return migrants’ verdict is that they do not regret returning their minds to Ghana and pursuing a homeward fu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ey indicator of this is how they adjudge their well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F6FA-9C9C-4568-BAD7-B72AD6A8B9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example, the concept involuntary immobilization (Carling, 2002; Lubkemann, 2008) captures the physicality of being displaced in place and not what happens mentally to the involuntarily immob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proceeding in theoretical silos. Immobility researchers </a:t>
            </a:r>
            <a:r>
              <a:rPr b="0" lang="en-US" sz="1200" spc="-1" strike="noStrike">
                <a:solidFill>
                  <a:srgbClr val="000000"/>
                </a:solidFill>
                <a:latin typeface="Calibri"/>
              </a:rPr>
              <a:t>do not forcefully highlight the cogn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researchers fail to incorporate failed migration projects in sit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incorporating failure in situ into the cognitive understanding of migration and by considering the cognitive in immobility or specifically, involuntary immobilization, a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of unified understanding of 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4CAC-D1E4-4D25-BF2E-CAD22E6C9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ssist those who fail in situ; the focus is on post migration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raxis has spawn </a:t>
            </a:r>
            <a:r>
              <a:rPr b="0" lang="en-US" sz="1200" spc="-1" strike="noStrike">
                <a:solidFill>
                  <a:srgbClr val="000000"/>
                </a:solidFill>
                <a:latin typeface="Calibri"/>
              </a:rPr>
              <a:t>the whole field of acculturation psychology (Sam &amp; Berry,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D79F-C42E-4FB3-8630-F92F3762F0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4A73-437B-4473-985B-8B2E853648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terations of migration theories unfortunately seem fixated on mind-body distinction as they fail to recognise migration as a cognitive process without accompanying bodily process. In concert with Merleau-Ponty (1971) who reasoned that psychology did not begin to develop until the day it gave up the distinction between mind and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1282-6B4D-4392-9786-1BC0D8C393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litical and policy imperative of the European Council and Member States is firmly fixed on strengthening the EU’s external borders.</a:t>
            </a:r>
            <a:r>
              <a:rPr b="0" lang="en-US" sz="1200" spc="-1" strike="noStrike">
                <a:solidFill>
                  <a:srgbClr val="000000"/>
                </a:solidFill>
                <a:latin typeface="Times New Roman"/>
                <a:ea typeface="Calibri"/>
              </a:rPr>
              <a:t>(Crawley &amp; Skleparis, 2017)</a:t>
            </a:r>
            <a:r>
              <a:rPr b="0" lang="en-US" sz="1200" spc="-1" strike="noStrike">
                <a:solidFill>
                  <a:srgbClr val="000000"/>
                </a:solidFill>
                <a:latin typeface="Times New Roman"/>
                <a:ea typeface="Times New Roman"/>
              </a:rPr>
              <a:t> in the world, a paltry 3.5% of the 7.7 billion global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in seven people are on the move (IOM 2015), however, few scholars ask why, in our age of globalization, six out of seven are not.</a:t>
            </a:r>
            <a:endParaRPr b="0" lang="en-US" sz="1200" spc="-1" strike="noStrike">
              <a:solidFill>
                <a:srgbClr val="000000"/>
              </a:solidFill>
              <a:latin typeface="Calibri"/>
            </a:endParaRPr>
          </a:p>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hewel, 2019)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F92D-90DE-4971-9FBE-25CE95C9ED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tological invisibilisation of the displaced in place </a:t>
            </a:r>
            <a:r>
              <a:rPr b="1" lang="en-US" sz="1200" spc="-1" strike="noStrike">
                <a:solidFill>
                  <a:srgbClr val="000000"/>
                </a:solidFill>
                <a:latin typeface="Calibri"/>
              </a:rPr>
              <a:t>Lubkemann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ho desire or dream to travel are able to do so for myriads of reasons </a:t>
            </a:r>
            <a:r>
              <a:rPr b="1" lang="en-US" sz="1200" spc="-1" strike="noStrike">
                <a:solidFill>
                  <a:srgbClr val="000000"/>
                </a:solidFill>
                <a:latin typeface="Calibri"/>
              </a:rPr>
              <a:t>(Carling, 2002; de Haas, 2010; Mata-Codesal, 2015; Setrana, 2021; Schewel, 20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distinction between the voluntarily immobile and the involuntarily immobil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etrana (20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A7B2-A722-49C8-8360-BC63F50395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erpetuates the corporeality bias in migration studies resulting in the invisibilisation of a category of migrants who are physically immobilised but cognitively mobi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as the study unambiguously clarifies, even in the context of spatial fixity, there is temporal and cognitive flow. Previous studies (Bocaagni; 2017; Wang &amp; Collins, 2020) situated the aspiration-temporality nexus in varied geopolitical sett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cending the mind/body duality makes the conceptualisation of migration an “intrinsic part of broader social processes of development, social transformation and globalisation” (Castle et al., 2014, p.51) possible by incorporating hither to invisibilised groups whose experiences are structured migration (i.e. cognitive migrants and cognitive returned mi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ability is due to the failure to ask the question “why do people not move?” To move or not to move is not only limited to spatial and temporal frames but the cognitive frame as well. Arango (2000), De Jong and Gardner  (1981) and Hammar et al. (1997) have all explored this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odologically, by studying cognitive migrants (initially displaced in place) who abandon their outward future orientation in favour of a homeward future orientation becoming cognitive returned migrants invested in local fu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tially, the counter narratives presented by the hither to non-existent cognitive returned migrants – a new immobility category – is  a Global South reality that valorises the call for the decolonisation of migration studies. The story of the Global South cognitive return migrant shows that immobility “itself not an impasse but another form of mobility” loudly projecting the counter-narrative that “viable futures are indeed possible outside of Europe’s borders” (Palladino, 2018, p. 87). The corpus of migration literature cannot be said to be complete, if it does not reflect lived migration experiences from the Global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entering the mind and highlighting the re-configuration and re-direction of migration imagination (i.e. migration aspiration and desire) homeward, the study makes a number of theoretical and methodological contributions to migration discourse.</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2B01-6D2F-4657-8507-9368990A33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 of cognitive return/emplacement is new to migration scholarship. Conceptually, the study collapsed the concepts aspiration and desire into one construct, migration imagination to enable the exploration of the homeward reconfiguration of the imagination of failed migrants because of the linearity assumption of the two-stage theories that does not allow return in situ. Zittoun’s (2020) sociocultural imagination model was used instead because of its reversibility quality of looping out from the proximal sphere to the distal sphere and looping back from the distal setting to the proximal setting of embodied experience. Although it is not applied in the context of ruptured imagination in situ or disembodied imagination, I extended it in that direction to understand cognitive return as a dis(em)placement process. A number of analytical advantages accrued from taking this route. First, it helped clarify the process of cognitive return/emplacement. In addition, a new immobility category, the cognitive return migrant could be conceptualised and the process by which this takes place elabor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8EF8-8CA1-480F-B9D6-1230070C9C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CA0E9-3EF9-427B-9E1B-35E6FC4AA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B9D7-0536-4D2F-9431-24791BBE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E9C07-31AE-417D-BE9D-EBBEB28E6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FBED2-F362-4970-B4FD-799F109DE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E68F-617E-41B2-A69D-D026BA17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9C696-BA22-4B15-998E-F9B6651D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CF5C-74D7-459F-A23B-3D563D9A7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AD26-6EA9-45DF-B8B5-2E2A8A321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58AC-D5F1-4FED-BA1D-6339B5F7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A964-00C7-4E97-9F7F-796BF01E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08BA-AAA7-4600-9DF4-1D56F14B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E17F-88B6-4C56-A368-8D7B08CA8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5E78-F52C-4A44-ADFE-4416AB406D8B}"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AA2F-66B3-4DB7-978E-7D1A23C6EF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a typeface="Times New Roman"/>
            </a:endParaRPr>
          </a:p>
        </p:txBody>
      </p:sp>
      <p:sp>
        <p:nvSpPr>
          <p:cNvPr id="49" name="PlaceHolder 2"/>
          <p:cNvSpPr>
            <a:spLocks noGrp="1"/>
          </p:cNvSpPr>
          <p:nvPr>
            <p:ph type="subTitle"/>
          </p:nvPr>
        </p:nvSpPr>
        <p:spPr>
          <a:xfrm>
            <a:off x="228600" y="1371240"/>
            <a:ext cx="8686800" cy="33526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Cognitive migration and return in Ghana</a:t>
            </a:r>
            <a:endParaRPr b="0" lang="en-US" sz="4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olf Awuku Bekoe </a:t>
            </a:r>
            <a:br>
              <a:rPr sz="2800"/>
            </a:br>
            <a:r>
              <a:rPr b="0" lang="en-US" sz="2800" spc="-1" strike="noStrike">
                <a:solidFill>
                  <a:srgbClr val="898989"/>
                </a:solidFill>
                <a:latin typeface="Calibri"/>
              </a:rPr>
              <a:t>Centre for Migration Studies, University of Ghana</a:t>
            </a: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endParaRPr b="0" lang="en-US" sz="2000" spc="-1" strike="noStrike">
              <a:solidFill>
                <a:srgbClr val="000000"/>
              </a:solidFill>
              <a:latin typeface="Calibri"/>
            </a:endParaRPr>
          </a:p>
        </p:txBody>
      </p:sp>
      <p:pic>
        <p:nvPicPr>
          <p:cNvPr id="50" name="Picture 3" descr="https://www.washingtonpost.com/resizer/2QSR1ToEc-sfCWpiRze3ZYocn88=/1484x0/arc-anglerfish-washpost-prod-washpost.s3.amazonaws.com/public/PFJW324KOM7LNJXAGAB2IYAPYQ.jpg"/>
          <p:cNvPicPr/>
          <p:nvPr/>
        </p:nvPicPr>
        <p:blipFill>
          <a:blip r:embed="rId2"/>
          <a:stretch/>
        </p:blipFill>
        <p:spPr>
          <a:xfrm>
            <a:off x="0" y="0"/>
            <a:ext cx="9144000" cy="11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Methodology</a:t>
            </a:r>
            <a:endParaRPr b="0" lang="en-US" sz="4400" spc="-1" strike="noStrike">
              <a:solidFill>
                <a:srgbClr val="000000"/>
              </a:solidFill>
              <a:latin typeface="Calibri"/>
            </a:endParaRPr>
          </a:p>
        </p:txBody>
      </p:sp>
      <p:graphicFrame>
        <p:nvGraphicFramePr>
          <p:cNvPr id="88" name=""/>
          <p:cNvGraphicFramePr/>
          <p:nvPr/>
        </p:nvGraphicFramePr>
        <p:xfrm>
          <a:off x="0" y="1523880"/>
          <a:ext cx="9144000" cy="5135760"/>
        </p:xfrm>
        <a:graphic>
          <a:graphicData uri="http://schemas.openxmlformats.org/drawingml/2006/table">
            <a:tbl>
              <a:tblPr/>
              <a:tblGrid>
                <a:gridCol w="1182600"/>
                <a:gridCol w="3359160"/>
                <a:gridCol w="1090800"/>
                <a:gridCol w="3511440"/>
              </a:tblGrid>
              <a:tr h="2192400">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Study area</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Why Accra and Kumasi</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most recipients of foreign remittance (Mazzucato et al., 2008). “Most Ghanaian migrants located outside of Africa come primarily from these regions” (p.111). </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Kumasi is known as the hub for international migration in Ghana (Dankyi et al., 2015; Manuh, 2000, 2005; Manu et al., 2010; Setrana &amp; Tonah, 2016). The term burger that has gain popularity for referring Ghanaian returned migrants from overseas originated from Kumasi.</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Data Collection</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iographical life history interview approach and content analysis of document</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etween November 2019 and May 2020.  </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itial interviews 1 to 2 minutes, second interviews 60 to 120 minutes</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Verbatim transcription. </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terviews were held face-to-face pre-COVID-19 </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search approach</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Design: Qualitative</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pistemology:  phenomenology</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Data Analyses</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matic analyses using IPA</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r>
                        <a:rPr b="0" lang="en-US" sz="1200" spc="-1" strike="noStrike">
                          <a:solidFill>
                            <a:srgbClr val="000000"/>
                          </a:solidFill>
                          <a:latin typeface="Times New Roman"/>
                          <a:ea typeface="Calibri"/>
                        </a:rPr>
                        <a:t>QDA Miner free edition.</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1957320">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Sampling/sample size</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urposive/snowball sampling techniques (population is hard-to-reach)</a:t>
                      </a:r>
                      <a:endParaRPr b="0" lang="en-US" sz="1200" spc="-1" strike="noStrike">
                        <a:solidFill>
                          <a:srgbClr val="000000"/>
                        </a:solidFill>
                        <a:latin typeface="Calibri"/>
                      </a:endParaRPr>
                    </a:p>
                    <a:p>
                      <a:pPr>
                        <a:lnSpc>
                          <a:spcPct val="10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Different nodes of recruitment were used to ensure sample diversity (Kirchherr &amp; Charles, 2018).  </a:t>
                      </a:r>
                      <a:endParaRPr b="0" lang="en-US" sz="1200" spc="-1" strike="noStrike">
                        <a:solidFill>
                          <a:srgbClr val="000000"/>
                        </a:solidFill>
                        <a:latin typeface="Calibri"/>
                      </a:endParaRPr>
                    </a:p>
                    <a:p>
                      <a:pPr>
                        <a:lnSpc>
                          <a:spcPct val="10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21 participants constitute the analytic base comprising 3 females and 18 males.  Average age of participants is 44 years.  Mean ages of male and female are 43 years and 51 years respectively.</a:t>
                      </a:r>
                      <a:endParaRPr b="0" lang="en-US" sz="1200" spc="-1" strike="noStrike">
                        <a:solidFill>
                          <a:srgbClr val="000000"/>
                        </a:solidFill>
                        <a:latin typeface="Calibri"/>
                      </a:endParaRPr>
                    </a:p>
                    <a:p>
                      <a:pPr>
                        <a:lnSpc>
                          <a:spcPct val="10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16 cognitive return migrants</a:t>
                      </a:r>
                      <a:endParaRPr b="0" lang="en-US" sz="1200" spc="-1" strike="noStrike">
                        <a:solidFill>
                          <a:srgbClr val="000000"/>
                        </a:solidFill>
                        <a:latin typeface="Calibri"/>
                      </a:endParaRPr>
                    </a:p>
                    <a:p>
                      <a:pPr>
                        <a:lnSpc>
                          <a:spcPct val="107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5 cognitive migrants</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Inclusion and exclusion criteria</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magined or dreamed of an outward future </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magination should have been actively pursued. Strong imagined future to significantly regulate daily actions or inactions that undermined investment in a homeward future (e.g., disinterest in working or schooling).</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Failure either through a visa denial or bouncing at one or multiple times or unfulfilled promise. </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magined destinations within the ECOWAS sub region were not included</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Ethics</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r>
                        <a:rPr b="0" lang="en-US" sz="1200" spc="-1" strike="noStrike">
                          <a:solidFill>
                            <a:srgbClr val="000000"/>
                          </a:solidFill>
                          <a:latin typeface="Times New Roman"/>
                          <a:ea typeface="Calibri"/>
                        </a:rPr>
                        <a:t>ECH 010/19-20</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ositionality</a:t>
                      </a:r>
                      <a:endParaRPr b="0" lang="en-US" sz="1200" spc="-1" strike="noStrike">
                        <a:solidFill>
                          <a:srgbClr val="000000"/>
                        </a:solidFill>
                        <a:latin typeface="Calibri"/>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eflexivity</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2CA1-E75C-41D1-8AF7-AB3938A0B0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indings and Discussion</a:t>
            </a:r>
            <a:br>
              <a:rPr sz="4400"/>
            </a:br>
            <a:endParaRPr b="0" lang="en-US" sz="4400" spc="-1" strike="noStrike">
              <a:solidFill>
                <a:srgbClr val="000000"/>
              </a:solidFill>
              <a:latin typeface="Calibri"/>
            </a:endParaRPr>
          </a:p>
        </p:txBody>
      </p:sp>
      <p:sp>
        <p:nvSpPr>
          <p:cNvPr id="92" name=""/>
          <p:cNvSpPr txBox="1"/>
          <p:nvPr/>
        </p:nvSpPr>
        <p:spPr>
          <a:xfrm>
            <a:off x="151920" y="1600200"/>
            <a:ext cx="8991720" cy="5029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bjective 1: The mind travelling abr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Becoming a cognitive migrant</a:t>
            </a:r>
            <a:endParaRPr b="0" lang="en-US" sz="32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nd’s exposure to migratory thought.  </a:t>
            </a:r>
            <a:endParaRPr b="0" lang="en-US" sz="2800" spc="-1" strike="noStrike">
              <a:solidFill>
                <a:srgbClr val="000000"/>
              </a:solidFill>
              <a:latin typeface="Calibri"/>
            </a:endParaRPr>
          </a:p>
          <a:p>
            <a:pPr lvl="2" marL="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ald: </a:t>
            </a:r>
            <a:endParaRPr b="0" lang="en-US" sz="2200" spc="-1" strike="noStrike">
              <a:solidFill>
                <a:srgbClr val="000000"/>
              </a:solidFill>
              <a:latin typeface="Calibri"/>
            </a:endParaRPr>
          </a:p>
          <a:p>
            <a:pPr lvl="2" marL="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Fortunately for me </a:t>
            </a:r>
            <a:r>
              <a:rPr b="1" i="1" lang="en-US" sz="1800" spc="-1" strike="noStrike">
                <a:solidFill>
                  <a:srgbClr val="ff0000"/>
                </a:solidFill>
                <a:latin typeface="Calibri"/>
              </a:rPr>
              <a:t>I had these friends </a:t>
            </a:r>
            <a:r>
              <a:rPr b="1" i="1" lang="en-US" sz="1800" spc="-1" strike="noStrike">
                <a:solidFill>
                  <a:srgbClr val="000000"/>
                </a:solidFill>
                <a:latin typeface="Calibri"/>
              </a:rPr>
              <a:t>way back in secondary school who used to receive parcels from relations in US, Canada, Germany and the UK. I asked them to tell me more about these places[…]I’m the type that likes researching on the internet a lot. […]. </a:t>
            </a:r>
            <a:r>
              <a:rPr b="1" i="1" lang="en-US" sz="1800" spc="-1" strike="noStrike">
                <a:solidFill>
                  <a:srgbClr val="ff0000"/>
                </a:solidFill>
                <a:latin typeface="Calibri"/>
              </a:rPr>
              <a:t>You see me on google typing US Army, British Army and what you can do to get to the country aside the job itself through the visa lottery and visa applications</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76A7-E1A8-4005-A4B3-1ABE4E9774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Objective 1(a): Becoming a cognitive migrant</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migration in Ghana (</a:t>
            </a:r>
            <a:r>
              <a:rPr b="0" lang="en-US" sz="3200" spc="-1" strike="noStrike">
                <a:solidFill>
                  <a:srgbClr val="000000"/>
                </a:solidFill>
                <a:latin typeface="Calibri"/>
              </a:rPr>
              <a:t>as </a:t>
            </a:r>
            <a:r>
              <a:rPr b="0" i="1" lang="en-US" sz="3200" spc="-1" strike="noStrike">
                <a:solidFill>
                  <a:srgbClr val="000000"/>
                </a:solidFill>
                <a:latin typeface="Calibri"/>
              </a:rPr>
              <a:t>voyage in situ </a:t>
            </a:r>
            <a:r>
              <a:rPr b="0" lang="en-US" sz="3200" spc="-1" strike="noStrike">
                <a:solidFill>
                  <a:srgbClr val="000000"/>
                </a:solidFill>
                <a:latin typeface="Calibri"/>
              </a:rPr>
              <a:t>Palladino, 2018, p. 81)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ter “</a:t>
            </a:r>
            <a:r>
              <a:rPr b="1" i="1" lang="en-US" sz="2400" spc="-1" strike="noStrike">
                <a:solidFill>
                  <a:srgbClr val="000000"/>
                </a:solidFill>
                <a:latin typeface="Calibri"/>
              </a:rPr>
              <a:t>Yes! In fact </a:t>
            </a:r>
            <a:r>
              <a:rPr b="1" i="1" lang="en-US" sz="2400" spc="-1" strike="noStrike">
                <a:solidFill>
                  <a:srgbClr val="ff0000"/>
                </a:solidFill>
                <a:latin typeface="Calibri"/>
              </a:rPr>
              <a:t>my body was here on Ghanaian soil </a:t>
            </a:r>
            <a:r>
              <a:rPr b="1" i="1" lang="en-US" sz="2400" spc="-1" strike="noStrike">
                <a:solidFill>
                  <a:srgbClr val="000000"/>
                </a:solidFill>
                <a:latin typeface="Calibri"/>
              </a:rPr>
              <a:t>but </a:t>
            </a:r>
            <a:r>
              <a:rPr b="1" i="1" lang="en-US" sz="2400" spc="-1" strike="noStrike">
                <a:solidFill>
                  <a:srgbClr val="ff0000"/>
                </a:solidFill>
                <a:latin typeface="Calibri"/>
              </a:rPr>
              <a:t>my mind was already in [the] UK </a:t>
            </a:r>
            <a:r>
              <a:rPr b="1" i="1" lang="en-US" sz="2400" spc="-1" strike="noStrike">
                <a:solidFill>
                  <a:srgbClr val="000000"/>
                </a:solidFill>
                <a:latin typeface="Calibri"/>
              </a:rPr>
              <a:t>before I even applied for the visa” </a:t>
            </a:r>
            <a:endParaRPr b="0" lang="en-US" sz="2400" spc="-1" strike="noStrike">
              <a:solidFill>
                <a:srgbClr val="000000"/>
              </a:solidFill>
              <a:latin typeface="Calibri"/>
            </a:endParaRPr>
          </a:p>
        </p:txBody>
      </p:sp>
      <p:sp>
        <p:nvSpPr>
          <p:cNvPr id="9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1006-7F54-4E88-9B48-63DCAB9C50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680" y="304560"/>
            <a:ext cx="9372600" cy="114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bjective 1(b): Cognitive characteristics: Qualities of the Mindset</a:t>
            </a:r>
            <a:endParaRPr b="0" lang="en-US" sz="4400" spc="-1" strike="noStrike">
              <a:solidFill>
                <a:srgbClr val="000000"/>
              </a:solidFill>
              <a:latin typeface="Calibri"/>
            </a:endParaRPr>
          </a:p>
        </p:txBody>
      </p:sp>
      <p:pic>
        <p:nvPicPr>
          <p:cNvPr id="100" name="Content Placeholder 3" descr=""/>
          <p:cNvPicPr/>
          <p:nvPr/>
        </p:nvPicPr>
        <p:blipFill>
          <a:blip r:embed="rId1"/>
          <a:stretch/>
        </p:blipFill>
        <p:spPr>
          <a:xfrm>
            <a:off x="628560" y="1822320"/>
            <a:ext cx="7886880" cy="4273560"/>
          </a:xfrm>
          <a:prstGeom prst="rect">
            <a:avLst/>
          </a:prstGeom>
          <a:ln w="0">
            <a:noFill/>
          </a:ln>
        </p:spPr>
      </p:pic>
      <p:sp>
        <p:nvSpPr>
          <p:cNvPr id="10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4BCA-C32F-454E-B300-B3BF883814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Objective 1(c): The nexus between mind and behaviour</a:t>
            </a:r>
            <a:endParaRPr b="0" lang="en-US" sz="4400" spc="-1" strike="noStrike">
              <a:solidFill>
                <a:srgbClr val="000000"/>
              </a:solidFill>
              <a:latin typeface="Calibri"/>
            </a:endParaRPr>
          </a:p>
        </p:txBody>
      </p:sp>
      <p:sp>
        <p:nvSpPr>
          <p:cNvPr id="104" name=""/>
          <p:cNvSpPr txBox="1"/>
          <p:nvPr/>
        </p:nvSpPr>
        <p:spPr>
          <a:xfrm>
            <a:off x="151920" y="1600200"/>
            <a:ext cx="89917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aginations structure present behaviours </a:t>
            </a:r>
            <a:endParaRPr b="0" lang="en-US" sz="3000" spc="-1" strike="noStrike">
              <a:solidFill>
                <a:srgbClr val="000000"/>
              </a:solidFill>
              <a:latin typeface="Calibri"/>
            </a:endParaRPr>
          </a:p>
          <a:p>
            <a:pPr lvl="4" marL="2057400" indent="-228600">
              <a:spcBef>
                <a:spcPts val="2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oikkalain</a:t>
            </a:r>
            <a:r>
              <a:rPr b="0" lang="en-US" sz="1100" spc="-1" strike="noStrike">
                <a:solidFill>
                  <a:srgbClr val="000000"/>
                </a:solidFill>
                <a:latin typeface="Calibri"/>
                <a:ea typeface="Calibri"/>
              </a:rPr>
              <a:t>c</a:t>
            </a:r>
            <a:r>
              <a:rPr b="1" lang="en-US" sz="1100" spc="-1" strike="noStrike">
                <a:solidFill>
                  <a:srgbClr val="000000"/>
                </a:solidFill>
                <a:latin typeface="Calibri"/>
              </a:rPr>
              <a:t>en &amp; Kyle, 2016; Seligman et al., 2013)</a:t>
            </a: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mote acculturation </a:t>
            </a:r>
            <a:endParaRPr b="0" lang="en-US" sz="3000" spc="-1" strike="noStrike">
              <a:solidFill>
                <a:srgbClr val="000000"/>
              </a:solidFill>
              <a:latin typeface="Calibri"/>
            </a:endParaRPr>
          </a:p>
          <a:p>
            <a:pPr lvl="4" marL="2057400" indent="-228600">
              <a:lnSpc>
                <a:spcPct val="100000"/>
              </a:lnSpc>
              <a:spcBef>
                <a:spcPts val="4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rguson &amp; Bornstein, 2012)</a:t>
            </a:r>
            <a:r>
              <a:rPr b="0" lang="en-US" sz="1900" spc="-1" strike="noStrike">
                <a:solidFill>
                  <a:srgbClr val="000000"/>
                </a:solidFill>
                <a:latin typeface="Times New Roman"/>
                <a:ea typeface="Calibri"/>
              </a:rPr>
              <a:t> </a:t>
            </a:r>
            <a:endParaRPr b="0" lang="en-US" sz="19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na</a:t>
            </a:r>
            <a:r>
              <a:rPr b="0" i="1" lang="en-US" sz="1600" spc="-1" strike="noStrike">
                <a:solidFill>
                  <a:srgbClr val="000000"/>
                </a:solidFill>
                <a:latin typeface="Calibri"/>
              </a:rPr>
              <a:t>: </a:t>
            </a:r>
            <a:r>
              <a:rPr b="1" i="1" lang="en-US" sz="1600" spc="-1" strike="noStrike">
                <a:solidFill>
                  <a:srgbClr val="000000"/>
                </a:solidFill>
                <a:latin typeface="Calibri"/>
              </a:rPr>
              <a:t>So, I started </a:t>
            </a:r>
            <a:r>
              <a:rPr b="1" i="1" lang="en-US" sz="1600" spc="-1" strike="noStrike">
                <a:solidFill>
                  <a:srgbClr val="ff0000"/>
                </a:solidFill>
                <a:latin typeface="Calibri"/>
              </a:rPr>
              <a:t>“slanging”, </a:t>
            </a:r>
            <a:r>
              <a:rPr b="1" i="1" lang="en-US" sz="1600" spc="-1" strike="noStrike">
                <a:solidFill>
                  <a:srgbClr val="000000"/>
                </a:solidFill>
                <a:latin typeface="Calibri"/>
              </a:rPr>
              <a:t>I was not teaching well because I knew I was going to leave shortly, you see. I knew I was going to leave so I was soft headed and my way of walking. I needed to start slanging so when I get to maybe an office I begin to slang and all that because I saw myself there already</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chie: </a:t>
            </a:r>
            <a:r>
              <a:rPr b="1" i="1" lang="en-US" sz="1600" spc="-1" strike="noStrike">
                <a:solidFill>
                  <a:srgbClr val="000000"/>
                </a:solidFill>
                <a:latin typeface="Calibri"/>
              </a:rPr>
              <a:t>That’s why I am saying that almost every day I am </a:t>
            </a:r>
            <a:r>
              <a:rPr b="1" i="1" lang="en-US" sz="1600" spc="-1" strike="noStrike">
                <a:solidFill>
                  <a:srgbClr val="ff0000"/>
                </a:solidFill>
                <a:latin typeface="Calibri"/>
              </a:rPr>
              <a:t>wearing t-shirt; the little money I got, I would go and buy canvas [sneakers], American polo shirt and dress like them</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ary to Zittoun (2020) there is a split between thought and action in respect of cognitive migration. </a:t>
            </a:r>
            <a:endParaRPr b="0" lang="en-US" sz="3000" spc="-1" strike="noStrike">
              <a:solidFill>
                <a:srgbClr val="000000"/>
              </a:solidFill>
              <a:latin typeface="Calibri"/>
            </a:endParaRPr>
          </a:p>
          <a:p>
            <a:pPr lvl="1" marL="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6B95-77C3-404B-9462-4EA4C3D7E6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bjective 2: The body failing to travel</a:t>
            </a:r>
            <a:br>
              <a:rPr sz="4000"/>
            </a:br>
            <a:endParaRPr b="0" lang="en-US" sz="4000" spc="-1" strike="noStrike">
              <a:solidFill>
                <a:srgbClr val="000000"/>
              </a:solidFill>
              <a:latin typeface="Calibri"/>
            </a:endParaRPr>
          </a:p>
        </p:txBody>
      </p:sp>
      <p:sp>
        <p:nvSpPr>
          <p:cNvPr id="108"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ailure trajecto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ience of imagination as the essence of cognitive migr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remy:</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My uncle got a connection to go to Japan and he wanted me to go instead […]</a:t>
            </a:r>
            <a:r>
              <a:rPr b="1" i="1" lang="en-US" sz="1600" spc="-1" strike="noStrike">
                <a:solidFill>
                  <a:srgbClr val="ff0000"/>
                </a:solidFill>
                <a:latin typeface="Calibri"/>
              </a:rPr>
              <a:t>So I had hope that I will travel one day and when I couldn’t travel it really affected me</a:t>
            </a:r>
            <a:r>
              <a:rPr b="1" i="1" lang="en-US" sz="1600" spc="-1" strike="noStrike">
                <a:solidFill>
                  <a:srgbClr val="000000"/>
                </a:solidFill>
                <a:latin typeface="Calibri"/>
              </a:rPr>
              <a:t> […] even the paper that I failed I had the opportunity to rewrite but I took my mind of because of the travel, so it really worried me.</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Pre-migration traum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ure signals an imaginative rupture resulting in pre-migration trauma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3676-A496-4E45-8D50-AABB1C6799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Objective 3: Returning the mind home: (a) Turning points</a:t>
            </a:r>
            <a:endParaRPr b="0" lang="en-US" sz="4400" spc="-1" strike="noStrike">
              <a:solidFill>
                <a:srgbClr val="000000"/>
              </a:solidFill>
              <a:latin typeface="Calibri"/>
            </a:endParaRPr>
          </a:p>
        </p:txBody>
      </p:sp>
      <p:sp>
        <p:nvSpPr>
          <p:cNvPr id="112"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experiences with failure created different turning points </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ictor</a:t>
            </a:r>
            <a:r>
              <a:rPr b="1" i="1"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 felt if I had to keep trying and while, I was getting bounced and stuff I would become an old man and probably not get to the university…… I needed not to waste any more time because I felt at a point in time, </a:t>
            </a:r>
            <a:r>
              <a:rPr b="1" i="1" lang="en-US" sz="1400" spc="-1" strike="noStrike">
                <a:solidFill>
                  <a:srgbClr val="ff0000"/>
                </a:solidFill>
                <a:latin typeface="Calibri"/>
              </a:rPr>
              <a:t>that even if I had the opportunity to go to America for my  education and applied to the military ( which I was a fan of), I could be denied on the account of age.</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ration as a spatio-temporal phenomenon</a:t>
            </a:r>
            <a:endParaRPr b="0" lang="en-US" sz="32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occagni, 2017; Wang &amp; Collins, 2020).</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ration as a spatio-temporal-cognitive phenomen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11A4-0970-4773-8A3A-292283A8F3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Objective 3(b): Stages of cognitive return migration: Disruptive Stage</a:t>
            </a:r>
            <a:endParaRPr b="0" lang="en-US" sz="4400" spc="-1" strike="noStrike">
              <a:solidFill>
                <a:srgbClr val="000000"/>
              </a:solidFill>
              <a:latin typeface="Calibri"/>
            </a:endParaRPr>
          </a:p>
        </p:txBody>
      </p:sp>
      <p:sp>
        <p:nvSpPr>
          <p:cNvPr id="116" name=""/>
          <p:cNvSpPr txBox="1"/>
          <p:nvPr/>
        </p:nvSpPr>
        <p:spPr>
          <a:xfrm>
            <a:off x="151920" y="1600200"/>
            <a:ext cx="8991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ruptive stage  </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Peter: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I was so shattered, it’s like my world has come to an end</a:t>
            </a:r>
            <a:r>
              <a:rPr b="1" i="1" lang="en-US" sz="1600" spc="-1" strike="noStrike">
                <a:solidFill>
                  <a:srgbClr val="000000"/>
                </a:solidFill>
                <a:latin typeface="Calibri"/>
              </a:rPr>
              <a:t>. I couldn’t think through well, I couldn’t, and it took some days before I could recover and come to my normal self.  … Your emotions just switched off to the opposite like that, it’s quite traumatic;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Regina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When I was returning home, I was nearly knocked down by a car around Movenpick because in fact I saw that my life had ended</a:t>
            </a:r>
            <a:r>
              <a:rPr b="1" i="1" lang="en-US" sz="1600" spc="-1" strike="noStrike">
                <a:solidFill>
                  <a:srgbClr val="000000"/>
                </a:solidFill>
                <a:latin typeface="Calibri"/>
              </a:rPr>
              <a:t>; the first time , I nearly collapsed because I had all my hopes in travelling abroa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4C1F-0F02-4875-8CD3-31DD9661A7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Reflective/Decision-making Stage/Enabler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ctor:</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	</a:t>
            </a:r>
            <a:r>
              <a:rPr b="1" i="1" lang="en-US" sz="1600" spc="-1" strike="noStrike">
                <a:solidFill>
                  <a:srgbClr val="ff0000"/>
                </a:solidFill>
                <a:latin typeface="Calibri"/>
              </a:rPr>
              <a:t>I reflected on so many thing while at the hospital. </a:t>
            </a:r>
            <a:r>
              <a:rPr b="1" i="1" lang="en-US" sz="1600" spc="-1" strike="noStrike">
                <a:solidFill>
                  <a:srgbClr val="000000"/>
                </a:solidFill>
                <a:latin typeface="Calibri"/>
              </a:rPr>
              <a:t>In fact, I took that time to read </a:t>
            </a:r>
            <a:r>
              <a:rPr b="1" i="1" lang="en-US" sz="1600" spc="-1" strike="noStrike">
                <a:solidFill>
                  <a:srgbClr val="000000"/>
                </a:solidFill>
                <a:latin typeface="Calibri"/>
              </a:rPr>
              <a:t>	</a:t>
            </a:r>
            <a:r>
              <a:rPr b="1" i="1" lang="en-US" sz="1600" spc="-1" strike="noStrike">
                <a:solidFill>
                  <a:srgbClr val="000000"/>
                </a:solidFill>
                <a:latin typeface="Calibri"/>
              </a:rPr>
              <a:t>the scriptures even more. </a:t>
            </a:r>
            <a:r>
              <a:rPr b="1" i="1" lang="en-US" sz="1600" spc="-1" strike="noStrike">
                <a:solidFill>
                  <a:srgbClr val="ff0000"/>
                </a:solidFill>
                <a:latin typeface="Calibri"/>
              </a:rPr>
              <a:t>I had the understanding that everywhere is home and so if </a:t>
            </a:r>
            <a:r>
              <a:rPr b="1" i="1" lang="en-US" sz="1600" spc="-1" strike="noStrike">
                <a:solidFill>
                  <a:srgbClr val="ff0000"/>
                </a:solidFill>
                <a:latin typeface="Calibri"/>
              </a:rPr>
              <a:t>	</a:t>
            </a:r>
            <a:r>
              <a:rPr b="1" i="1" lang="en-US" sz="1600" spc="-1" strike="noStrike">
                <a:solidFill>
                  <a:srgbClr val="ff0000"/>
                </a:solidFill>
                <a:latin typeface="Calibri"/>
              </a:rPr>
              <a:t>I wasn’t getting the opportunity to go and further my education outside, I should do </a:t>
            </a:r>
            <a:r>
              <a:rPr b="1" i="1" lang="en-US" sz="1600" spc="-1" strike="noStrike">
                <a:solidFill>
                  <a:srgbClr val="ff0000"/>
                </a:solidFill>
                <a:latin typeface="Calibri"/>
              </a:rPr>
              <a:t>	</a:t>
            </a:r>
            <a:r>
              <a:rPr b="1" i="1" lang="en-US" sz="1600" spc="-1" strike="noStrike">
                <a:solidFill>
                  <a:srgbClr val="ff0000"/>
                </a:solidFill>
                <a:latin typeface="Calibri"/>
              </a:rPr>
              <a:t>it here in Ghana</a:t>
            </a:r>
            <a:r>
              <a:rPr b="1" i="1" lang="en-US" sz="1600" spc="-1" strike="noStrike">
                <a:solidFill>
                  <a:srgbClr val="000000"/>
                </a:solidFill>
                <a:latin typeface="Calibri"/>
              </a:rPr>
              <a:t>……Other people have had the opportunity to study here in spite of </a:t>
            </a:r>
            <a:r>
              <a:rPr b="1" i="1" lang="en-US" sz="1600" spc="-1" strike="noStrike">
                <a:solidFill>
                  <a:srgbClr val="000000"/>
                </a:solidFill>
                <a:latin typeface="Calibri"/>
              </a:rPr>
              <a:t>	</a:t>
            </a:r>
            <a:r>
              <a:rPr b="1" i="1" lang="en-US" sz="1600" spc="-1" strike="noStrike">
                <a:solidFill>
                  <a:srgbClr val="000000"/>
                </a:solidFill>
                <a:latin typeface="Calibri"/>
              </a:rPr>
              <a:t>the rampant school closures due to strike action by students and lecturer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conomic</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cio-cultura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cial suppor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traumatic growth</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lf-regulation.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6F63-E59B-4008-A9DC-B9F15023DD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Economic/social support/ posttraumatic growth/self-regulation</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thew:</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It came to a day that I didn’t have cedi on me even to buy food to eat. So I called a friend. I knew very well he had money, but he told me he didn’t. </a:t>
            </a:r>
            <a:r>
              <a:rPr b="1" i="1" lang="en-US" sz="1600" spc="-1" strike="noStrike">
                <a:solidFill>
                  <a:srgbClr val="ff0000"/>
                </a:solidFill>
                <a:latin typeface="Calibri"/>
              </a:rPr>
              <a:t>So I said to myself that my failing to travel is not the end of me. Was I the first person to be denied a visa? No. So I asked myself why I wanted to live a miserable life</a:t>
            </a:r>
            <a:r>
              <a:rPr b="1" i="1" lang="en-US" sz="1600" spc="-1" strike="noStrike">
                <a:solidFill>
                  <a:srgbClr val="000000"/>
                </a:solidFill>
                <a:latin typeface="Calibri"/>
              </a:rPr>
              <a:t>. As soon as I thought of these things, the next </a:t>
            </a:r>
            <a:r>
              <a:rPr b="1" i="1" lang="en-US" sz="1600" spc="-1" strike="noStrike">
                <a:solidFill>
                  <a:srgbClr val="ff0000"/>
                </a:solidFill>
                <a:latin typeface="Calibri"/>
              </a:rPr>
              <a:t>day I called a friend of mine</a:t>
            </a:r>
            <a:r>
              <a:rPr b="1" i="1" lang="en-US" sz="1600" spc="-1" strike="noStrike">
                <a:solidFill>
                  <a:srgbClr val="000000"/>
                </a:solidFill>
                <a:latin typeface="Calibri"/>
              </a:rPr>
              <a:t>. I told him what had happened and that I wanted to do something. By then he was teaching in a private school so I asked if there was any vacancy. He said to me there was one person who has left …..So I went and submitted it on Friday and I was called for an interview on Monday morning. I hadn’t taught before. What I had done was teaching Sunday school. The interview was such that, they took me to a class and I was asked to teach anything because they hadn’t given me a subject to teach. So they took me there and I started talking. </a:t>
            </a:r>
            <a:r>
              <a:rPr b="1" i="1" lang="en-US" sz="1600" spc="-1" strike="noStrike">
                <a:solidFill>
                  <a:srgbClr val="ff0000"/>
                </a:solidFill>
                <a:latin typeface="Calibri"/>
              </a:rPr>
              <a:t>After 5 minutes of teaching, I was called later in the evening that I had been employed. So I went the next day. At that point, I began to reorganize myself.</a:t>
            </a:r>
            <a:endParaRPr b="0" lang="en-US" sz="1600" spc="-1" strike="noStrike">
              <a:solidFill>
                <a:srgbClr val="000000"/>
              </a:solidFill>
              <a:latin typeface="Calibri"/>
            </a:endParaRPr>
          </a:p>
        </p:txBody>
      </p:sp>
      <p:sp>
        <p:nvSpPr>
          <p:cNvPr id="1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BC7E-3B84-4D28-B8A5-B5B3F99427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Outline</a:t>
            </a:r>
            <a:endParaRPr b="0" lang="en-US" sz="4400" spc="-1" strike="noStrike">
              <a:solidFill>
                <a:srgbClr val="000000"/>
              </a:solidFill>
              <a:latin typeface="Calibri"/>
            </a:endParaRPr>
          </a:p>
        </p:txBody>
      </p:sp>
      <p:sp>
        <p:nvSpPr>
          <p:cNvPr id="5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rodu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blem state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stification/Significance of stud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etical positio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olog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nding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ibution to knowled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ication/Recommend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lus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6938-7AAA-4523-9AA4-62ABE418D7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ocio-cultural</a:t>
            </a:r>
            <a:endParaRPr b="0" lang="en-US" sz="4400" spc="-1" strike="noStrike">
              <a:solidFill>
                <a:srgbClr val="000000"/>
              </a:solidFill>
              <a:latin typeface="Calibri"/>
            </a:endParaRPr>
          </a:p>
        </p:txBody>
      </p:sp>
      <p:sp>
        <p:nvSpPr>
          <p:cNvPr id="128" name=""/>
          <p:cNvSpPr txBox="1"/>
          <p:nvPr/>
        </p:nvSpPr>
        <p:spPr>
          <a:xfrm>
            <a:off x="76320" y="1600200"/>
            <a:ext cx="9067680" cy="46483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hiru:</a:t>
            </a:r>
            <a:endParaRPr b="0" lang="en-US" sz="3200" spc="-1" strike="noStrike">
              <a:solidFill>
                <a:srgbClr val="000000"/>
              </a:solidFill>
              <a:latin typeface="Calibri"/>
            </a:endParaRPr>
          </a:p>
          <a:p>
            <a:pPr marL="339480" indent="-3394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I have my freedom. I can see my family and my mother to comfort her</a:t>
            </a:r>
            <a:r>
              <a:rPr b="1" i="1" lang="en-US" sz="2000" spc="-1" strike="noStrike">
                <a:solidFill>
                  <a:srgbClr val="000000"/>
                </a:solidFill>
                <a:latin typeface="Calibri"/>
              </a:rPr>
              <a:t>. […]. So I called Yaw and informed him of the demise of his father. …… </a:t>
            </a:r>
            <a:r>
              <a:rPr b="1" i="1" lang="en-US" sz="2000" spc="-1" strike="noStrike">
                <a:solidFill>
                  <a:srgbClr val="ff0000"/>
                </a:solidFill>
                <a:latin typeface="Calibri"/>
              </a:rPr>
              <a:t>“Bashiru help me, this is what is wrong with traveling. I didn’t see my father’s face before he died. Bashiru did you give him water to drink on my behalf?” To which I answered “yes, I gave him water to drink on your behalf”.</a:t>
            </a:r>
            <a:r>
              <a:rPr b="1" i="1" lang="en-US" sz="2000" spc="-1" strike="noStrike">
                <a:solidFill>
                  <a:srgbClr val="000000"/>
                </a:solidFill>
                <a:latin typeface="Calibri"/>
              </a:rPr>
              <a:t> “Bashiru, hmmm as for being domiciled in somebody’s country; my friend cried and cried during the night. [...]. </a:t>
            </a:r>
            <a:r>
              <a:rPr b="1" i="1" lang="en-US" sz="2000" spc="-1" strike="noStrike">
                <a:solidFill>
                  <a:srgbClr val="ff0000"/>
                </a:solidFill>
                <a:latin typeface="Calibri"/>
              </a:rPr>
              <a:t>The man had also indicated early on that when he dies, he should not be kept in the morgue for more than a month. But because of traveling issues, we violated the wishes of the man. “Hmm I obey every rule of my father, I ask for a pardon from him. I want to see his face before he’s buried. So he had to be in the morgue for about three months. “My father should forgive me”</a:t>
            </a:r>
            <a:r>
              <a:rPr b="1" i="1" lang="en-US" sz="2000" spc="-1" strike="noStrike">
                <a:solidFill>
                  <a:srgbClr val="000000"/>
                </a:solidFill>
                <a:latin typeface="Calibri"/>
              </a:rPr>
              <a:t>.  Akwantuo mu abrabɔ. Yaw was advising me. But I said he shouldn’t because I had seen everything. </a:t>
            </a:r>
            <a:r>
              <a:rPr b="1" i="1" lang="en-US" sz="2000" spc="-1" strike="noStrike">
                <a:solidFill>
                  <a:srgbClr val="ff0000"/>
                </a:solidFill>
                <a:latin typeface="Calibri"/>
              </a:rPr>
              <a:t>‘You’re staying among your kinsmen you were not welcome? Go, go and try it! </a:t>
            </a:r>
            <a:r>
              <a:rPr b="1" i="1" lang="en-US" sz="1400" spc="-1" strike="noStrike">
                <a:solidFill>
                  <a:srgbClr val="ff0000"/>
                </a:solidFill>
                <a:latin typeface="Calibri"/>
              </a:rPr>
              <a:t> </a:t>
            </a:r>
            <a:endParaRPr b="0" lang="en-US" sz="1400" spc="-1" strike="noStrike">
              <a:solidFill>
                <a:srgbClr val="000000"/>
              </a:solidFill>
              <a:latin typeface="Calibri"/>
            </a:endParaRPr>
          </a:p>
          <a:p>
            <a:pPr marL="339480" indent="-3394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6D3B-D299-4800-B063-66EEAF0F71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Return and reintegration stag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ge where cognitive return migrants settle and appreciate the benefits accruing from the decision to stay at home. </a:t>
            </a:r>
            <a:endParaRPr b="0" lang="en-US" sz="3200" spc="-1" strike="noStrike">
              <a:solidFill>
                <a:srgbClr val="000000"/>
              </a:solidFill>
              <a:latin typeface="Calibri"/>
            </a:endParaRPr>
          </a:p>
          <a:p>
            <a:pPr marL="343080" indent="-343080">
              <a:lnSpc>
                <a:spcPct val="2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Capito:</a:t>
            </a:r>
            <a:endParaRPr b="0" lang="en-US" sz="2400" spc="-1" strike="noStrike">
              <a:solidFill>
                <a:srgbClr val="000000"/>
              </a:solidFill>
              <a:latin typeface="Calibri"/>
            </a:endParaRPr>
          </a:p>
          <a:p>
            <a:pPr marL="343080" indent="-34308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Calibri"/>
              </a:rPr>
              <a:t> </a:t>
            </a:r>
            <a:r>
              <a:rPr b="1" i="1" lang="en-US" sz="1600" spc="-1" strike="noStrike">
                <a:solidFill>
                  <a:srgbClr val="000000"/>
                </a:solidFill>
                <a:latin typeface="Times New Roman"/>
                <a:ea typeface="Calibri"/>
              </a:rPr>
              <a:t>I think you have to make good use of every situation that comes your way. I didn’t go abroad, I did not live there but currently if I want to go I can. Sighs! I have not regretted staying in Ghana and I don’t know what would have happened if I had gone that early in life so whatever stage the Lord has brought me I love that and I appreciate it (…) I feel I am able to take care of my children. […]</a:t>
            </a:r>
            <a:r>
              <a:rPr b="1" i="1" lang="en-US" sz="1600" spc="-1" strike="noStrike">
                <a:solidFill>
                  <a:srgbClr val="ff0000"/>
                </a:solidFill>
                <a:latin typeface="Times New Roman"/>
                <a:ea typeface="Calibri"/>
              </a:rPr>
              <a:t>I think that I have done well. And I am still doing it not like I have given up or completed. My father built two houses, one at Abeka, one in the hometown of his second wife but I think I have got more than that today</a:t>
            </a:r>
            <a:r>
              <a:rPr b="1" i="1" lang="en-US" sz="1600" spc="-1" strike="noStrike">
                <a:solidFill>
                  <a:srgbClr val="000000"/>
                </a:solidFill>
                <a:latin typeface="Times New Roman"/>
                <a:ea typeface="Calibri"/>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C746-5288-4D93-8D58-6133F28DCF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gnitive migrants who became cognitive return migrants</a:t>
            </a:r>
            <a:endParaRPr b="0" lang="en-US" sz="4400" spc="-1" strike="noStrike">
              <a:solidFill>
                <a:srgbClr val="000000"/>
              </a:solidFill>
              <a:latin typeface="Calibri"/>
            </a:endParaRPr>
          </a:p>
        </p:txBody>
      </p:sp>
      <p:graphicFrame>
        <p:nvGraphicFramePr>
          <p:cNvPr id="136" name=""/>
          <p:cNvGraphicFramePr/>
          <p:nvPr/>
        </p:nvGraphicFramePr>
        <p:xfrm>
          <a:off x="0" y="1523880"/>
          <a:ext cx="9220320" cy="4807080"/>
        </p:xfrm>
        <a:graphic>
          <a:graphicData uri="http://schemas.openxmlformats.org/drawingml/2006/table">
            <a:tbl>
              <a:tblPr/>
              <a:tblGrid>
                <a:gridCol w="692280"/>
                <a:gridCol w="3878280"/>
                <a:gridCol w="4649760"/>
              </a:tblGrid>
              <a:tr h="370080">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gnitive migrant (Displaced mind)</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gnitive Return Migrant (emplaced mind)</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3280">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na</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was so desperate because I had heard that when you go abroad whatever the situation you can make it;  so even when I go to the classroom I don’t write because I knew I was going to leave the system.</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 when I took my mind off that and I worked hard and also trusted in God…study petroleum engineering... So when I am talking about when I came, I am referring to when I came back to my normal being.</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22680">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John</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y mind was that I was going to go to the UK and Mr. Adu had promised me he was going to help me come to the UK. So my mind was full of I wanted to travel. ‘I am coming to the UK, UK here I come, be waiting for me’</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 when I couldn’t go, I shifted the thought because I had the opportunity to work. I can tell you I have not regretted anything.  I am gainfully employed, I love the company that I work for; besides, friends I have, the church I attend, roles I play in church and all these things, is what has made me to reconsider years back not to travel again but stay here. </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01760">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pito</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went to the embassy as a young boy thinking my life had just began because I was going to the US… I knew the US was a place that if I arrived I will be ok so I did not want anything from Ghana.</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440" rIns="3744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needed to psyche my mind that whatever worse thing has already happened. I don’t know but what I see is that wherever you are if you want to succeed you can succeed. You just have to focus.</a:t>
                      </a:r>
                      <a:endParaRPr b="0" lang="en-US" sz="1600" spc="-1" strike="noStrike">
                        <a:solidFill>
                          <a:srgbClr val="000000"/>
                        </a:solidFill>
                        <a:latin typeface="Calibri"/>
                      </a:endParaRPr>
                    </a:p>
                  </a:txBody>
                  <a:tcPr anchor="t" marL="37440" marR="37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FC63-F1EF-480B-AAF7-B531346FAC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tributions to knowledge: Theory </a:t>
            </a:r>
            <a:endParaRPr b="0" lang="en-US" sz="4400" spc="-1" strike="noStrike">
              <a:solidFill>
                <a:srgbClr val="000000"/>
              </a:solidFill>
              <a:latin typeface="Calibri"/>
            </a:endParaRPr>
          </a:p>
        </p:txBody>
      </p:sp>
      <p:sp>
        <p:nvSpPr>
          <p:cNvPr id="140" name=""/>
          <p:cNvSpPr txBox="1"/>
          <p:nvPr/>
        </p:nvSpPr>
        <p:spPr>
          <a:xfrm>
            <a:off x="228600" y="1599840"/>
            <a:ext cx="86868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irmation of cognitive migration and cognitive migrants</a:t>
            </a:r>
            <a:r>
              <a:rPr b="0" lang="en-US" sz="3600" spc="-1" strike="noStrike">
                <a:solidFill>
                  <a:srgbClr val="000000"/>
                </a:solidFill>
                <a:latin typeface="Calibri"/>
              </a:rPr>
              <a:t> </a:t>
            </a:r>
            <a:endParaRPr b="0" lang="en-US" sz="36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ikkkalinen &amp; Kyle, 2016).</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Bridging the gap between immobility and cognitive migration strands of research. </a:t>
            </a:r>
            <a:endParaRPr b="0" lang="en-US" sz="3500" spc="-1" strike="noStrike">
              <a:solidFill>
                <a:srgbClr val="000000"/>
              </a:solidFill>
              <a:latin typeface="Calibri"/>
            </a:endParaRPr>
          </a:p>
          <a:p>
            <a:pPr lvl="4" marL="20574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ling, 2002; Lubkemann, 2008; Mata-codesal, 2015, 2017; Schewel, 2019; Setrana, 2021)/(Koikkalainen &amp; Kyle, 2016; Koikkalainen et al., 2018; Wormersely, 2020; Zittoun, 2020). </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version of the hegemonic Western narratives about migration and movement as prog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3367-9370-4BCC-9405-2C65D627B0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Calibri"/>
              </a:rPr>
              <a:t>Implication: Policy, Practice and Future Studies</a:t>
            </a:r>
            <a:br>
              <a:rPr sz="4400"/>
            </a:b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unting for </a:t>
            </a:r>
            <a:r>
              <a:rPr b="0" lang="en-US" sz="3200" spc="-1" strike="noStrike">
                <a:solidFill>
                  <a:srgbClr val="000000"/>
                </a:solidFill>
                <a:latin typeface="Calibri"/>
              </a:rPr>
              <a:t>cognitive return migrants in national 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of migration praxis to provide</a:t>
            </a:r>
            <a:r>
              <a:rPr b="0" lang="en-US" sz="3200" spc="-1" strike="noStrike">
                <a:solidFill>
                  <a:srgbClr val="000000"/>
                </a:solidFill>
                <a:latin typeface="Calibri"/>
              </a:rPr>
              <a:t> psychosocial support to cognitive migr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ing more women, addressing the limitation of memory lapses and improving methodological design for studying failure in si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DB71-2B6E-446E-9BD7-A70828019B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148"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ailed biographical accounts of particip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d imagining a future away from home and  travelling ahead of the body to the imagined dest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rajectories of failure and their eff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ss by which the mind returns to the origin in pursuit of a homeward future. </a:t>
            </a:r>
            <a:endParaRPr b="0" lang="en-US" sz="3200" spc="-1" strike="noStrike">
              <a:solidFill>
                <a:srgbClr val="000000"/>
              </a:solidFill>
              <a:latin typeface="Calibri"/>
            </a:endParaRPr>
          </a:p>
        </p:txBody>
      </p:sp>
      <p:sp>
        <p:nvSpPr>
          <p:cNvPr id="1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FF32-F353-4957-927D-A9E52AA98B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to account for the cognitive migrants in mirrors an age-long problem – Cartesian dualism – that must be add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rgue that migration studies will not develop until it transcends the mind-body duality so prevalent in many of its theor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8579-B28E-4822-94CD-ABD2DF98CC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795840" y="1600200"/>
            <a:ext cx="5348160" cy="4424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50 million adults desire to move </a:t>
            </a:r>
            <a:endParaRPr b="0" lang="en-US" sz="2800" spc="-1" strike="noStrike">
              <a:solidFill>
                <a:srgbClr val="000000"/>
              </a:solidFill>
              <a:latin typeface="Calibri"/>
            </a:endParaRPr>
          </a:p>
          <a:p>
            <a:pPr lvl="4" marL="2057400" indent="-2286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allup World Polls 2015-2017; Esipova et al., 2018).</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72 million international migrants in 2019 </a:t>
            </a:r>
            <a:endParaRPr b="0" lang="en-US" sz="2800" spc="-1" strike="noStrike">
              <a:solidFill>
                <a:srgbClr val="000000"/>
              </a:solidFill>
              <a:latin typeface="Calibri"/>
            </a:endParaRPr>
          </a:p>
          <a:p>
            <a:pPr lvl="4" marL="2057400" indent="-2286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 DESA, 2020)</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third of Ghanaians declare an intention to emigrate; one in ten Ghanaians planning to emigrate.</a:t>
            </a:r>
            <a:endParaRPr b="0" lang="en-US" sz="2800" spc="-1" strike="noStrike">
              <a:solidFill>
                <a:srgbClr val="000000"/>
              </a:solidFill>
              <a:latin typeface="Calibri"/>
            </a:endParaRPr>
          </a:p>
          <a:p>
            <a:pPr lvl="4" marL="2057400" indent="-228600">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frobarometer, 2018)</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6" name="Content Placeholder 4" descr="Defend Europe have set off in their vessel C-Star to block refugee boats leaving the coast of Libya bound for Italy "/>
          <p:cNvPicPr/>
          <p:nvPr/>
        </p:nvPicPr>
        <p:blipFill>
          <a:blip r:embed="rId1"/>
          <a:stretch/>
        </p:blipFill>
        <p:spPr>
          <a:xfrm>
            <a:off x="0" y="1600200"/>
            <a:ext cx="1981080" cy="1211400"/>
          </a:xfrm>
          <a:prstGeom prst="rect">
            <a:avLst/>
          </a:prstGeom>
          <a:ln w="0">
            <a:noFill/>
          </a:ln>
        </p:spPr>
      </p:pic>
      <p:pic>
        <p:nvPicPr>
          <p:cNvPr id="57" name="Picture 2" descr="Image result for africans going to Europe"/>
          <p:cNvPicPr/>
          <p:nvPr/>
        </p:nvPicPr>
        <p:blipFill>
          <a:blip r:embed="rId2"/>
          <a:stretch/>
        </p:blipFill>
        <p:spPr>
          <a:xfrm>
            <a:off x="1981080" y="1523880"/>
            <a:ext cx="1814760" cy="1312920"/>
          </a:xfrm>
          <a:prstGeom prst="rect">
            <a:avLst/>
          </a:prstGeom>
          <a:ln w="0">
            <a:noFill/>
          </a:ln>
        </p:spPr>
      </p:pic>
      <p:pic>
        <p:nvPicPr>
          <p:cNvPr id="58" name="Picture 4" descr="Image result for africans going to Europe"/>
          <p:cNvPicPr/>
          <p:nvPr/>
        </p:nvPicPr>
        <p:blipFill>
          <a:blip r:embed="rId3"/>
          <a:stretch/>
        </p:blipFill>
        <p:spPr>
          <a:xfrm>
            <a:off x="0" y="2836800"/>
            <a:ext cx="3795840" cy="3348000"/>
          </a:xfrm>
          <a:prstGeom prst="rect">
            <a:avLst/>
          </a:prstGeom>
          <a:ln w="0">
            <a:noFill/>
          </a:ln>
        </p:spPr>
      </p:pic>
      <p:sp>
        <p:nvSpPr>
          <p:cNvPr id="5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Introduction</a:t>
            </a:r>
            <a:endParaRPr b="0" lang="en-US" sz="4400" spc="-1" strike="noStrike">
              <a:solidFill>
                <a:srgbClr val="000000"/>
              </a:solidFill>
              <a:latin typeface="Calibri"/>
            </a:endParaRPr>
          </a:p>
        </p:txBody>
      </p:sp>
      <p:sp>
        <p:nvSpPr>
          <p:cNvPr id="6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30FE-0C2A-4923-8AFB-A7ADE52155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oblem Statement</a:t>
            </a:r>
            <a:endParaRPr b="0" lang="en-US" sz="4000" spc="-1" strike="noStrike">
              <a:solidFill>
                <a:srgbClr val="000000"/>
              </a:solidFill>
              <a:latin typeface="Calibri"/>
            </a:endParaRPr>
          </a:p>
        </p:txBody>
      </p:sp>
      <p:pic>
        <p:nvPicPr>
          <p:cNvPr id="63" name="Content Placeholder 2" descr=""/>
          <p:cNvPicPr/>
          <p:nvPr/>
        </p:nvPicPr>
        <p:blipFill>
          <a:blip r:embed="rId1"/>
          <a:stretch/>
        </p:blipFill>
        <p:spPr>
          <a:xfrm>
            <a:off x="-139680" y="1523880"/>
            <a:ext cx="9210600" cy="5334120"/>
          </a:xfrm>
          <a:prstGeom prst="rect">
            <a:avLst/>
          </a:prstGeom>
          <a:ln w="0">
            <a:noFill/>
          </a:ln>
        </p:spPr>
      </p:pic>
      <p:sp>
        <p:nvSpPr>
          <p:cNvPr id="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7DA5-B5BE-4456-91C8-389DB64F06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in Objective/Specific Objective </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have an in-depth understanding of the lived experience of cognitive migrants and how they re-engage with their homeward fu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process of becoming a cognitive migr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the effects of migration fail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rify the process and enablers of cognitive return migration</a:t>
            </a:r>
            <a:endParaRPr b="0" lang="en-US" sz="2800" spc="-1" strike="noStrike">
              <a:solidFill>
                <a:srgbClr val="000000"/>
              </a:solidFill>
              <a:latin typeface="Calibri"/>
            </a:endParaRPr>
          </a:p>
        </p:txBody>
      </p:sp>
      <p:sp>
        <p:nvSpPr>
          <p:cNvPr id="6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76C8-A97B-47F9-B696-AD6344DCAF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Significance</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71" name="Content Placeholder 2" descr=""/>
          <p:cNvPicPr/>
          <p:nvPr/>
        </p:nvPicPr>
        <p:blipFill>
          <a:blip r:embed="rId1"/>
          <a:stretch/>
        </p:blipFill>
        <p:spPr>
          <a:xfrm>
            <a:off x="-146160" y="1523880"/>
            <a:ext cx="9418680" cy="5334120"/>
          </a:xfrm>
          <a:prstGeom prst="rect">
            <a:avLst/>
          </a:prstGeom>
          <a:ln w="0">
            <a:noFill/>
          </a:ln>
        </p:spPr>
      </p:pic>
      <p:sp>
        <p:nvSpPr>
          <p:cNvPr id="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9D38-3093-4311-A6ED-525775FD5D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eoretical positioning</a:t>
            </a:r>
            <a:endParaRPr b="0" lang="en-US" sz="4000" spc="-1" strike="noStrike">
              <a:solidFill>
                <a:srgbClr val="000000"/>
              </a:solidFill>
              <a:latin typeface="Calibri"/>
            </a:endParaRPr>
          </a:p>
        </p:txBody>
      </p:sp>
      <p:pic>
        <p:nvPicPr>
          <p:cNvPr id="75" name="Content Placeholder 2" descr=""/>
          <p:cNvPicPr/>
          <p:nvPr/>
        </p:nvPicPr>
        <p:blipFill>
          <a:blip r:embed="rId1"/>
          <a:stretch/>
        </p:blipFill>
        <p:spPr>
          <a:xfrm>
            <a:off x="311040" y="1468440"/>
            <a:ext cx="8454960" cy="4657680"/>
          </a:xfrm>
          <a:prstGeom prst="rect">
            <a:avLst/>
          </a:prstGeom>
          <a:ln w="0">
            <a:noFill/>
          </a:ln>
        </p:spPr>
      </p:pic>
      <p:sp>
        <p:nvSpPr>
          <p:cNvPr id="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5A13-741B-44BD-9B7F-8A8107B6E5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gnitive migration and the cognitive migrant</a:t>
            </a:r>
            <a:endParaRPr b="0" lang="en-US" sz="4400" spc="-1" strike="noStrike">
              <a:solidFill>
                <a:srgbClr val="000000"/>
              </a:solidFill>
              <a:latin typeface="Calibri"/>
            </a:endParaRPr>
          </a:p>
        </p:txBody>
      </p:sp>
      <p:pic>
        <p:nvPicPr>
          <p:cNvPr id="79" name="Content Placeholder 4" descr=""/>
          <p:cNvPicPr/>
          <p:nvPr/>
        </p:nvPicPr>
        <p:blipFill>
          <a:blip r:embed="rId1"/>
          <a:stretch/>
        </p:blipFill>
        <p:spPr>
          <a:xfrm>
            <a:off x="0" y="1600200"/>
            <a:ext cx="9064800" cy="2544840"/>
          </a:xfrm>
          <a:prstGeom prst="rect">
            <a:avLst/>
          </a:prstGeom>
          <a:ln w="0">
            <a:noFill/>
          </a:ln>
        </p:spPr>
      </p:pic>
      <p:pic>
        <p:nvPicPr>
          <p:cNvPr id="80" name="Content Placeholder 5" descr=""/>
          <p:cNvPicPr/>
          <p:nvPr/>
        </p:nvPicPr>
        <p:blipFill>
          <a:blip r:embed="rId2"/>
          <a:stretch/>
        </p:blipFill>
        <p:spPr>
          <a:xfrm>
            <a:off x="-9360" y="4145040"/>
            <a:ext cx="9064440" cy="2865240"/>
          </a:xfrm>
          <a:prstGeom prst="rect">
            <a:avLst/>
          </a:prstGeom>
          <a:ln w="0">
            <a:noFill/>
          </a:ln>
        </p:spPr>
      </p:pic>
      <p:sp>
        <p:nvSpPr>
          <p:cNvPr id="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6C30-37DB-4BDB-80E9-FF498786E6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gnitive return migration, the cognitive return migrant and enablers</a:t>
            </a:r>
            <a:endParaRPr b="0" lang="en-US" sz="4400" spc="-1" strike="noStrike">
              <a:solidFill>
                <a:srgbClr val="000000"/>
              </a:solidFill>
              <a:latin typeface="Calibri"/>
            </a:endParaRPr>
          </a:p>
        </p:txBody>
      </p:sp>
      <p:pic>
        <p:nvPicPr>
          <p:cNvPr id="84" name="Content Placeholder 3" descr=""/>
          <p:cNvPicPr/>
          <p:nvPr/>
        </p:nvPicPr>
        <p:blipFill>
          <a:blip r:embed="rId1"/>
          <a:stretch/>
        </p:blipFill>
        <p:spPr>
          <a:xfrm>
            <a:off x="723960" y="1752480"/>
            <a:ext cx="7696080" cy="4334040"/>
          </a:xfrm>
          <a:prstGeom prst="rect">
            <a:avLst/>
          </a:prstGeom>
          <a:ln w="0">
            <a:noFill/>
          </a:ln>
        </p:spPr>
      </p:pic>
      <p:sp>
        <p:nvSpPr>
          <p:cNvPr id="8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EBED-E64D-481A-B4F6-B0D02B9AA0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56:57Z</dcterms:created>
  <dc:creator>Michael Kobena Phillips</dc:creator>
  <dc:description/>
  <dc:language>en-US</dc:language>
  <cp:lastModifiedBy>User</cp:lastModifiedBy>
  <dcterms:modified xsi:type="dcterms:W3CDTF">2024-02-22T18:20:11Z</dcterms:modified>
  <cp:revision>524</cp:revision>
  <dc:subject/>
  <dc:title>Some title</dc:title>
</cp:coreProperties>
</file>